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39052"/>
        <c:axId val="27802101"/>
      </c:barChart>
      <c:catAx>
        <c:axId val="13539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02101"/>
        <c:crosses val="autoZero"/>
        <c:auto val="1"/>
        <c:lblAlgn val="ctr"/>
        <c:lblOffset val="100"/>
        <c:noMultiLvlLbl val="0"/>
      </c:catAx>
      <c:valAx>
        <c:axId val="27802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39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764-309C-4EE3-9D90-58093842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A43-3637-4CA1-80B0-98D3C85D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CA3-30E2-4B4B-BFD6-00C7D4BED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221-BFC5-41A1-A6AB-7816A344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73A-CC6E-4EDE-ACBC-E75905D1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69C-1D71-4349-B778-77FD8D2A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EF9-E760-4F4D-89CC-6BF9DFAB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16E-1D94-4B5B-B304-1B88A9E0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F48-4522-4878-8D44-359269DF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F74-3F33-4F55-A3C7-C91836B9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E38-2C94-4638-B3A0-1BD2D9B5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F1B-6D3B-4FB4-AF3D-4C3CBC20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CDF49-7907-4458-BCBC-8510C96486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