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7243736"/>
        <c:axId val="20980343"/>
      </c:barChart>
      <c:catAx>
        <c:axId val="9724373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980343"/>
        <c:crosses val="autoZero"/>
        <c:auto val="1"/>
        <c:lblAlgn val="ctr"/>
        <c:lblOffset val="100"/>
        <c:noMultiLvlLbl val="0"/>
      </c:catAx>
      <c:valAx>
        <c:axId val="2098034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24373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A5EC-A977-4BD6-B152-B75B7D5C5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CF04-26B8-4D80-8EF7-58127840B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260B-04C6-45CC-979C-4E2131D96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4696-1927-42F3-B21E-A5EF4737E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FFCE-57F8-4CB0-9EA1-D38F0087E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2CA6-8165-4208-A209-C24140334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AA9C-7BE9-4906-9641-29020F59F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E7BC-07E4-459E-ADA7-3C2C55244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8C71-25D8-4D72-8EE4-DAF4203BF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A096-4E24-494C-BDD8-5FAF5D210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1076-59AF-4EE5-854A-4F4A8A0AF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2C9A-60DD-4D95-8C2D-11BE88CFA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BACD67-2BF2-487A-83EA-9A5CEA838DF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