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053427"/>
        <c:axId val="37920596"/>
      </c:barChart>
      <c:catAx>
        <c:axId val="400534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20596"/>
        <c:crosses val="autoZero"/>
        <c:auto val="1"/>
        <c:lblAlgn val="ctr"/>
        <c:lblOffset val="100"/>
        <c:noMultiLvlLbl val="0"/>
      </c:catAx>
      <c:valAx>
        <c:axId val="37920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534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90D2-64F9-4BC6-9BF5-D4E3B00F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140D-7B04-4318-9904-2A2060A7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4363-8DC7-489C-A23E-5A3D6778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E7E-F698-4498-BBA2-E7CB8C10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1F3-6CB6-405C-8EF6-22A4173D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0BAF-D5C9-4FE1-B536-3A6715D3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6D25-C87D-4DDB-BBC2-3BF2795D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904D-932F-4EE9-BE6F-191FD8C1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525D-F804-4A13-A470-F03AEE75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A964-A73D-4E7B-8D5D-82158491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D484-0A24-4C22-B746-6A33C6BC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29D5-EC14-449C-B75C-58C98555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D13DD-16B0-4F82-BFAA-F2B4EBF7E3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