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534147"/>
        <c:axId val="96818000"/>
      </c:barChart>
      <c:catAx>
        <c:axId val="275341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18000"/>
        <c:crosses val="autoZero"/>
        <c:auto val="1"/>
        <c:lblAlgn val="ctr"/>
        <c:lblOffset val="100"/>
        <c:noMultiLvlLbl val="0"/>
      </c:catAx>
      <c:valAx>
        <c:axId val="968180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341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593F-930B-49CC-A473-DB726405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8BD3-CF52-4493-984A-800C3A11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1249-2F33-4F21-9FB5-30344BC4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F6D2-F6B8-4DAA-8722-7E243B3E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13E3-A8D4-4132-82EE-9A9A1020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C79A-8657-43CC-A8CA-510A9DC1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B3C8-F90B-4BDB-9B97-1F4C7043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B22C-E1C7-44D6-9720-ACD5A3A1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3412-64C1-4C59-AA88-A2B3A978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2CE5-A4A5-48D8-A673-9F3B53CE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C992-11D1-4BA1-8CD7-B730B72F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B8CD-6DEB-4722-948D-32FBABC2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45FD8-5A19-4482-865B-EA3D388A3B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