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32455"/>
        <c:axId val="82200092"/>
      </c:barChart>
      <c:catAx>
        <c:axId val="30732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00092"/>
        <c:crosses val="autoZero"/>
        <c:auto val="1"/>
        <c:lblAlgn val="ctr"/>
        <c:lblOffset val="100"/>
        <c:noMultiLvlLbl val="0"/>
      </c:catAx>
      <c:valAx>
        <c:axId val="82200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2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503-06F6-4199-BC3D-741A6C89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C9C-FA20-4EB2-99F3-3D74CD89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3DC-E3D1-4A51-820D-429539E7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C81-1B14-45AA-A44D-0DB6E6FD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F28-BE6E-4D03-B07A-1ABB18C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9D2-5324-4359-9E31-B50C408D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E23-D98A-4F03-98ED-EE715E97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CE4-4275-4F58-9059-8D50D28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24A-F9BE-489D-A8B1-BC2F7BE2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8BE-D45B-43B6-B457-1120E65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0C1-587A-4221-B7D5-A2E0534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DD9-711D-43E4-824C-D5F45111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714C9-3D30-4820-A472-E5DF249A04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