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62211"/>
        <c:axId val="36478969"/>
      </c:barChart>
      <c:catAx>
        <c:axId val="30762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78969"/>
        <c:crosses val="autoZero"/>
        <c:auto val="1"/>
        <c:lblAlgn val="ctr"/>
        <c:lblOffset val="100"/>
        <c:noMultiLvlLbl val="0"/>
      </c:catAx>
      <c:valAx>
        <c:axId val="36478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62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EBB-976E-41F8-9734-E851B021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FE0-56DE-4D37-961F-0A659C6D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AC0-CA2C-4B75-BDF3-F43C8261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1F2-DEEA-4468-AFF7-06FAC44E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C38-AB87-4059-8393-2E522A98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7D3-F626-4C87-A3A1-5C344BCB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F83-D66F-49E0-85C8-0594CF4F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955-7CF6-46D0-90CB-6D9A4C92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44B-7BAA-4540-8A6F-2A0A8F52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155-9CA6-4D9D-98DC-778533CF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807-00DF-4D88-8992-24A2BC66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41D-C243-409A-9206-D93CBC7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51BC5-557C-4769-9F24-3FF4F35D6D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