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56411"/>
        <c:axId val="98356711"/>
      </c:barChart>
      <c:catAx>
        <c:axId val="32656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56711"/>
        <c:crosses val="autoZero"/>
        <c:auto val="1"/>
        <c:lblAlgn val="ctr"/>
        <c:lblOffset val="100"/>
        <c:noMultiLvlLbl val="0"/>
      </c:catAx>
      <c:valAx>
        <c:axId val="98356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56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A1E-E4CD-4038-B2B5-38099606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83A-94BE-4D80-BA2F-E707E81E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CEE-C433-475B-BE1A-128C573E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60F-5720-4062-8EAE-E8A33D73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FC8-4D1B-4A49-AC5A-80A63621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C95-777E-4130-9395-59AAC2E4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A52-93CB-43FA-988B-67F6A157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437-F11C-486E-AB10-CEA293EF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1C3-51D7-4671-836C-E81F758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7B8-CAE5-48D7-85F4-B397ACD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406-395C-486C-976F-14368F40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BE6-59E0-4DEA-849F-D0006E41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45478-75C5-4A81-88DA-51649237E4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