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45014"/>
        <c:axId val="30029348"/>
      </c:barChart>
      <c:catAx>
        <c:axId val="378450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29348"/>
        <c:crosses val="autoZero"/>
        <c:auto val="1"/>
        <c:lblAlgn val="ctr"/>
        <c:lblOffset val="100"/>
        <c:noMultiLvlLbl val="0"/>
      </c:catAx>
      <c:valAx>
        <c:axId val="30029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450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8A2B-6D24-4657-9A30-FC8569C6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44E-F73C-4636-8A39-23D8C2C4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ABB-8DF2-4128-954B-5CE739BA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B191-2A66-468E-A7F8-1CDF6DBB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A675-1C03-4C62-B813-4E97632C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5C16-48FA-48A4-A027-FEE83A7D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021-9E19-464A-8AED-51FF7514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ABB-95CF-4192-8A75-E77DB994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0FA-8032-400E-90D0-95357305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3AB-F694-41F2-A0EB-8F09FA81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4B7-B555-48BE-B3D9-4C034B31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CA5B-95B2-4133-B94E-56A6814C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60D17-3F56-426B-A42A-D3E1E35E09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