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56810"/>
        <c:axId val="7341357"/>
      </c:barChart>
      <c:catAx>
        <c:axId val="7495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1357"/>
        <c:crosses val="autoZero"/>
        <c:auto val="1"/>
        <c:lblAlgn val="ctr"/>
        <c:lblOffset val="100"/>
        <c:noMultiLvlLbl val="0"/>
      </c:catAx>
      <c:valAx>
        <c:axId val="7341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5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C00-43A1-4AAB-BD89-94711039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AFE-E516-4795-A8B5-720CC03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289-45AD-4E50-82B7-73CF8379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18B-85EA-4051-8645-A06E1DB2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5CC-DDD3-4A39-BE01-FE9FA51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16B-8F7C-43EB-BD51-CEF6BE9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A3F-AB05-4500-9224-793179B1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BB5-447A-4C7D-8291-20F69B2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876-3358-4F13-BFAB-D6203C9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21D-46A4-4A44-8231-A62DB74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C20-FD78-4CF1-8607-FF90D86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054-2427-4FD4-AE1B-9A4E2C1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A73E-3357-43FF-AC08-8F3D1FB8EF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