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98976"/>
        <c:axId val="56496366"/>
      </c:barChart>
      <c:catAx>
        <c:axId val="10398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96366"/>
        <c:crosses val="autoZero"/>
        <c:auto val="1"/>
        <c:lblAlgn val="ctr"/>
        <c:lblOffset val="100"/>
        <c:noMultiLvlLbl val="0"/>
      </c:catAx>
      <c:valAx>
        <c:axId val="56496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98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7510-6472-409B-AAFD-A4344A8F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C65-5666-412B-89C1-F1734A73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DEB-E812-4EFD-9A86-CEE314D3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A089-FFF3-46FA-BDD7-B4321E40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325-9C37-4A64-9B87-C96C7916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A626-2D86-4F6A-A3FF-190FE25D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C29-A4F7-4DEE-A04E-BA6ED296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66C-626D-45FC-87FC-7D9BB977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F33-59BD-47F8-B599-3818711A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608-3223-480F-995E-C000F525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FE2-4A36-4168-A1FD-0718F6D9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15B-53F4-4A14-B53B-D8067CB8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07231-22FE-4848-940D-D70131C3EE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