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79060"/>
        <c:axId val="67467317"/>
      </c:barChart>
      <c:catAx>
        <c:axId val="34790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67317"/>
        <c:crosses val="autoZero"/>
        <c:auto val="1"/>
        <c:lblAlgn val="ctr"/>
        <c:lblOffset val="100"/>
        <c:noMultiLvlLbl val="0"/>
      </c:catAx>
      <c:valAx>
        <c:axId val="674673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90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DDE4-8952-4175-A18C-EC33BEB0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0C0F-FD47-4F5E-B957-61629C5C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4ABD-C9A1-4493-82E6-A673C5146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3484-EFF7-4923-B841-08DEEF8C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25B3-838F-4D91-9E40-74F6794A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5944-BDD8-434B-B15B-616D5D95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D81D-8C5D-4AEB-8DB0-7237680A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B352-553B-4011-BA95-7123D396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37FF-E330-4B74-A55A-30624E18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3227-76AC-4B8A-881E-90C68D3C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A7A0-65B1-4E09-AE54-458707E8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6607-DEEE-42A4-A2D0-231407A7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9F9D5-27AF-43C8-8D49-20DB3B5F98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