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71567"/>
        <c:axId val="14904720"/>
      </c:barChart>
      <c:catAx>
        <c:axId val="27171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04720"/>
        <c:crosses val="autoZero"/>
        <c:auto val="1"/>
        <c:lblAlgn val="ctr"/>
        <c:lblOffset val="100"/>
        <c:noMultiLvlLbl val="0"/>
      </c:catAx>
      <c:valAx>
        <c:axId val="14904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71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2EA-6BCD-4BDA-BA99-2AE8DEB3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B59-247D-4A02-9AE0-7F10A157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7F8-6493-430D-A207-BFD201DE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01F-59EF-41AB-B247-78CF7FE0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9FD-8A19-4FAC-9DB9-8F4D64FC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BA8-4F4F-447D-BE9C-14A281F6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685-1B1F-422B-9C0B-761071BB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834-4B28-4E03-92F5-9B523183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DF4-D544-4BCE-88A8-7F0CC266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F13-0DA1-4036-B974-19AE4C21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241-E1EE-4E2D-A79F-56125727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981C-EE54-46D9-9801-4EF5559D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F7262-77AC-4488-AF31-C65413CFA4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