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65941"/>
        <c:axId val="91018536"/>
      </c:barChart>
      <c:catAx>
        <c:axId val="26165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18536"/>
        <c:crosses val="autoZero"/>
        <c:auto val="1"/>
        <c:lblAlgn val="ctr"/>
        <c:lblOffset val="100"/>
        <c:noMultiLvlLbl val="0"/>
      </c:catAx>
      <c:valAx>
        <c:axId val="91018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65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D5F-C4A9-4035-9E09-F590CE1B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B7B-D664-4C14-8D50-F7ABAE23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965-3927-4883-92ED-A6C967A6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32C-9244-4991-AB51-90568D0D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35E-FDD6-40F8-8BD8-957B7F0F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12F-06A6-45BD-A3C2-A43BD891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4C3-2347-4890-9BA5-D988342C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4922-F6C6-481A-8768-9811302D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3C2-DB94-4BF9-BAD1-C32502DC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77E-98C9-4083-A6CD-216B6D6D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E15-0B9D-4477-B412-A51204BA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90C2-0075-423B-A8B4-B66FD764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91D9E-F679-454C-9269-0C904D1DF2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