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64907"/>
        <c:axId val="35452211"/>
      </c:barChart>
      <c:catAx>
        <c:axId val="78864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2211"/>
        <c:crosses val="autoZero"/>
        <c:auto val="1"/>
        <c:lblAlgn val="ctr"/>
        <c:lblOffset val="100"/>
        <c:noMultiLvlLbl val="0"/>
      </c:catAx>
      <c:valAx>
        <c:axId val="35452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64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423-D1E6-4220-8484-3021560A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00B-2378-4BFF-9325-CC5DAD32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F17-7860-482D-9DBC-EC81A879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4C0-8A28-4C85-8501-7651A862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52F-A590-4992-A488-2E6FDC1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0FC-48FB-42E0-8AD4-C2B9738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DF6-5AB8-413B-BE65-B7F70121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AD1-EA39-41D4-93D6-5DB5D25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F21-8D9B-4BDA-AC25-4F7E237B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04D-1CD1-42BF-9BAC-05BF36F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DB2-1307-4EBE-853C-521C22F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FA3-EB25-4CE5-A738-A2C73A1D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88242-6362-4C3D-B8BB-C2BBD0E06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