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88895"/>
        <c:axId val="87872214"/>
      </c:barChart>
      <c:catAx>
        <c:axId val="35588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72214"/>
        <c:crosses val="autoZero"/>
        <c:auto val="1"/>
        <c:lblAlgn val="ctr"/>
        <c:lblOffset val="100"/>
        <c:noMultiLvlLbl val="0"/>
      </c:catAx>
      <c:valAx>
        <c:axId val="878722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88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4B0-58C1-4BA0-911B-142DB489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5C8-B79D-4D68-994D-E5A625CB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EF3-2726-4D6C-BEB1-40FA1593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EBB-7450-4A4F-B275-8640EDA7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27A-F86E-4388-BA42-5A4342E3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372-0A0D-4F19-A8B4-DBC5661D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F27E-4781-44A2-8C33-3275BEA6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9BD-16ED-44D6-98AB-00C00356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53C-3C5F-4328-AAF3-BB9A749B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4D1-DAA9-4B2E-856C-1CB8EE48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F55-B2E2-4DE3-ADD9-D1873B67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5B7-625E-408D-B2D6-9F6D628F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A2D9A-CDB4-428E-91D2-13E48713BC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