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226429"/>
        <c:axId val="36390400"/>
      </c:barChart>
      <c:catAx>
        <c:axId val="552264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390400"/>
        <c:crosses val="autoZero"/>
        <c:auto val="1"/>
        <c:lblAlgn val="ctr"/>
        <c:lblOffset val="100"/>
        <c:noMultiLvlLbl val="0"/>
      </c:catAx>
      <c:valAx>
        <c:axId val="363904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2264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4E8B-A968-4EB7-B314-E23CE1F40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587C-F3D3-4410-9112-9B42E285C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8296-D156-4378-BE35-8E5B5A29D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E916-E894-4263-8326-EE929E4E6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F85C-CE62-4A1A-B7AD-AFD943A57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6FE8-F4E6-4A5B-98FD-9C1696409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47C1-A382-4D0A-8DD8-5083C6784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BA8A-652B-4B1B-A604-099852AF8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0A5D-A093-4B98-8E9D-4F0C55908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EAE2-773B-4898-8217-18879E66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162A-107B-4EC0-8C6D-2DD61BC0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89ED-DAA3-48B2-B899-1BF978CE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B268BC-596D-4C28-8C1E-B7DC33B7F4B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